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7B6F-F60F-4574-A1EB-EC455DFC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886-9D58-4E08-9400-9DB9CEA5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8C6-3A64-4582-B525-B63DB7BC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510-AAEC-4348-8B91-BDB5F7BD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BDE-F81C-44D8-A8EA-860002A3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A7F9-F2B2-474D-9B5F-400E62D1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AAF-AAA2-441E-9200-3CD3E10F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AA3-A191-4269-BD28-844834FA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660-964A-4F30-897B-C3D44362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08D-1ADC-48DF-9925-BCD8BAB1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0CAA-24F3-4D57-A2A2-8D1FB278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9CCE-4956-4064-A819-F6D17533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AA6A-4450-4549-A6D7-F5F64B5B5A44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5D8C-D295-4C24-B06C-943775598E2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luna.cn/class.asp?LarCode=&#20799;&#31461;&#37197;&#39280;&amp;MidCode=&#21253;&#21253;&#31995;&#21015;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078360" y="2743200"/>
            <a:ext cx="3417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节    压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压强与生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65240" y="1733400"/>
            <a:ext cx="784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九章    压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6763320" y="401652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菜刀的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很锋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C:\Users\Administrator\Desktop\timg (1).jpgtimg (1)"/>
          <p:cNvPicPr/>
          <p:nvPr/>
        </p:nvPicPr>
        <p:blipFill>
          <a:blip r:embed="rId1"/>
          <a:stretch/>
        </p:blipFill>
        <p:spPr>
          <a:xfrm>
            <a:off x="1398600" y="1832040"/>
            <a:ext cx="3733920" cy="2395440"/>
          </a:xfrm>
          <a:prstGeom prst="rect">
            <a:avLst/>
          </a:prstGeom>
          <a:ln w="0">
            <a:noFill/>
          </a:ln>
        </p:spPr>
      </p:pic>
      <p:sp>
        <p:nvSpPr>
          <p:cNvPr id="229" name="Oval 5"/>
          <p:cNvSpPr/>
          <p:nvPr/>
        </p:nvSpPr>
        <p:spPr>
          <a:xfrm rot="2224800">
            <a:off x="1353960" y="2809800"/>
            <a:ext cx="1968840" cy="45720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6005520" y="3807000"/>
            <a:ext cx="2743200" cy="1523880"/>
          </a:xfrm>
          <a:prstGeom prst="wedgeRectCallout">
            <a:avLst>
              <a:gd name="adj1" fmla="val -154893"/>
              <a:gd name="adj2" fmla="val -56750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399960" y="898560"/>
            <a:ext cx="415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44546a"/>
                </a:solidFill>
                <a:latin typeface="黑体"/>
                <a:ea typeface="黑体"/>
              </a:rPr>
              <a:t>减少受力面积，增大压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92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192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192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192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" descr="03104002"/>
          <p:cNvPicPr/>
          <p:nvPr/>
        </p:nvPicPr>
        <p:blipFill>
          <a:blip r:embed="rId1"/>
          <a:stretch/>
        </p:blipFill>
        <p:spPr>
          <a:xfrm>
            <a:off x="5248440" y="1386000"/>
            <a:ext cx="2338200" cy="236052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3" descr=""/>
          <p:cNvPicPr/>
          <p:nvPr/>
        </p:nvPicPr>
        <p:blipFill>
          <a:blip r:embed="rId2"/>
          <a:stretch/>
        </p:blipFill>
        <p:spPr>
          <a:xfrm>
            <a:off x="1413000" y="3919680"/>
            <a:ext cx="2400120" cy="23698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4" descr=""/>
          <p:cNvPicPr/>
          <p:nvPr/>
        </p:nvPicPr>
        <p:blipFill>
          <a:blip r:embed="rId3"/>
          <a:stretch/>
        </p:blipFill>
        <p:spPr>
          <a:xfrm>
            <a:off x="5202360" y="3919680"/>
            <a:ext cx="2367000" cy="2331720"/>
          </a:xfrm>
          <a:prstGeom prst="rect">
            <a:avLst/>
          </a:prstGeom>
          <a:ln w="0">
            <a:noFill/>
          </a:ln>
        </p:spPr>
      </p:pic>
      <p:grpSp>
        <p:nvGrpSpPr>
          <p:cNvPr id="236" name="组合 6"/>
          <p:cNvGrpSpPr/>
          <p:nvPr/>
        </p:nvGrpSpPr>
        <p:grpSpPr>
          <a:xfrm>
            <a:off x="933480" y="1386000"/>
            <a:ext cx="2887560" cy="2354040"/>
            <a:chOff x="933480" y="1386000"/>
            <a:chExt cx="2887560" cy="2354040"/>
          </a:xfrm>
        </p:grpSpPr>
        <p:pic>
          <p:nvPicPr>
            <p:cNvPr id="237" name="图片 1" descr="03104001"/>
            <p:cNvPicPr/>
            <p:nvPr/>
          </p:nvPicPr>
          <p:blipFill>
            <a:blip r:embed="rId4"/>
            <a:stretch/>
          </p:blipFill>
          <p:spPr>
            <a:xfrm>
              <a:off x="933480" y="1469160"/>
              <a:ext cx="2743560" cy="17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椭圆 5"/>
            <p:cNvSpPr/>
            <p:nvPr/>
          </p:nvSpPr>
          <p:spPr>
            <a:xfrm>
              <a:off x="1466280" y="1386000"/>
              <a:ext cx="2354760" cy="2354040"/>
            </a:xfrm>
            <a:prstGeom prst="ellipse">
              <a:avLst/>
            </a:prstGeom>
            <a:noFill/>
            <a:ln w="44280">
              <a:solidFill>
                <a:srgbClr val="2b71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文本框 7"/>
          <p:cNvSpPr/>
          <p:nvPr/>
        </p:nvSpPr>
        <p:spPr>
          <a:xfrm>
            <a:off x="1184400" y="696960"/>
            <a:ext cx="704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下列图中各是用什么方法增大或者减小压强的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？"/>
          <p:cNvPicPr/>
          <p:nvPr/>
        </p:nvPicPr>
        <p:blipFill>
          <a:blip r:embed="rId5"/>
          <a:stretch/>
        </p:blipFill>
        <p:spPr>
          <a:xfrm>
            <a:off x="692280" y="549360"/>
            <a:ext cx="547560" cy="73188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421000" y="2222640"/>
            <a:ext cx="194472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增大压强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4324320" y="1557360"/>
            <a:ext cx="35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定时，减 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4348080" y="35956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定时，增大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4251240" y="22194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定时，增大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4295880" y="29098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同时增大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348080" y="42433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定时，减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4276800" y="49640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增大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同时减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2440080" y="42228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小压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3949560" y="1751040"/>
            <a:ext cx="239760" cy="1441440"/>
          </a:xfrm>
          <a:custGeom>
            <a:avLst/>
            <a:gdLst>
              <a:gd name="textAreaLeft" fmla="*/ 153360 w 239760"/>
              <a:gd name="textAreaRight" fmla="*/ 240120 w 239760"/>
              <a:gd name="textAreaTop" fmla="*/ 52200 h 1441440"/>
              <a:gd name="textAreaBottom" fmla="*/ 138924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6"/>
                  <a:pt x="10800" y="2512"/>
                </a:cubicBezTo>
                <a:lnTo>
                  <a:pt x="10800" y="8288"/>
                </a:lnTo>
                <a:cubicBezTo>
                  <a:pt x="10800" y="9544"/>
                  <a:pt x="5400" y="10800"/>
                  <a:pt x="0" y="10800"/>
                </a:cubicBezTo>
                <a:cubicBezTo>
                  <a:pt x="5400" y="10800"/>
                  <a:pt x="10800" y="12056"/>
                  <a:pt x="10800" y="13312"/>
                </a:cubicBezTo>
                <a:lnTo>
                  <a:pt x="10800" y="19088"/>
                </a:lnTo>
                <a:cubicBezTo>
                  <a:pt x="10800" y="2034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4"/>
          <p:cNvSpPr/>
          <p:nvPr/>
        </p:nvSpPr>
        <p:spPr>
          <a:xfrm>
            <a:off x="4016520" y="3790800"/>
            <a:ext cx="239400" cy="1441440"/>
          </a:xfrm>
          <a:custGeom>
            <a:avLst/>
            <a:gdLst>
              <a:gd name="textAreaLeft" fmla="*/ 153000 w 239400"/>
              <a:gd name="textAreaRight" fmla="*/ 239760 w 239400"/>
              <a:gd name="textAreaTop" fmla="*/ 52200 h 1441440"/>
              <a:gd name="textAreaBottom" fmla="*/ 138924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6"/>
                  <a:pt x="10800" y="2512"/>
                </a:cubicBezTo>
                <a:lnTo>
                  <a:pt x="10800" y="8288"/>
                </a:lnTo>
                <a:cubicBezTo>
                  <a:pt x="10800" y="9544"/>
                  <a:pt x="5400" y="10800"/>
                  <a:pt x="0" y="10800"/>
                </a:cubicBezTo>
                <a:cubicBezTo>
                  <a:pt x="5400" y="10800"/>
                  <a:pt x="10800" y="12056"/>
                  <a:pt x="10800" y="13312"/>
                </a:cubicBezTo>
                <a:lnTo>
                  <a:pt x="10800" y="19088"/>
                </a:lnTo>
                <a:cubicBezTo>
                  <a:pt x="10800" y="2034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066760" y="2400480"/>
            <a:ext cx="317520" cy="2062080"/>
          </a:xfrm>
          <a:custGeom>
            <a:avLst/>
            <a:gdLst>
              <a:gd name="textAreaLeft" fmla="*/ 203040 w 317520"/>
              <a:gd name="textAreaRight" fmla="*/ 317520 w 317520"/>
              <a:gd name="textAreaTop" fmla="*/ 69120 h 2062080"/>
              <a:gd name="textAreaBottom" fmla="*/ 1992960 h 2062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0"/>
                  <a:pt x="10800" y="2320"/>
                </a:cubicBezTo>
                <a:lnTo>
                  <a:pt x="10800" y="8480"/>
                </a:lnTo>
                <a:cubicBezTo>
                  <a:pt x="10800" y="9640"/>
                  <a:pt x="5400" y="10800"/>
                  <a:pt x="0" y="10800"/>
                </a:cubicBezTo>
                <a:cubicBezTo>
                  <a:pt x="5400" y="10800"/>
                  <a:pt x="10800" y="11960"/>
                  <a:pt x="10800" y="13120"/>
                </a:cubicBezTo>
                <a:lnTo>
                  <a:pt x="10800" y="19280"/>
                </a:lnTo>
                <a:cubicBezTo>
                  <a:pt x="10800" y="2044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1481040" y="2419200"/>
            <a:ext cx="41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压强与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02904002"/>
          <p:cNvPicPr/>
          <p:nvPr/>
        </p:nvPicPr>
        <p:blipFill>
          <a:blip r:embed="rId1"/>
          <a:stretch/>
        </p:blipFill>
        <p:spPr>
          <a:xfrm>
            <a:off x="1085760" y="558720"/>
            <a:ext cx="2432160" cy="36514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2" descr="02904003"/>
          <p:cNvPicPr/>
          <p:nvPr/>
        </p:nvPicPr>
        <p:blipFill>
          <a:blip r:embed="rId2"/>
          <a:stretch/>
        </p:blipFill>
        <p:spPr>
          <a:xfrm>
            <a:off x="4560840" y="777960"/>
            <a:ext cx="3657600" cy="331920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3"/>
          <p:cNvSpPr/>
          <p:nvPr/>
        </p:nvSpPr>
        <p:spPr>
          <a:xfrm>
            <a:off x="698400" y="4419720"/>
            <a:ext cx="7934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小小的蚊虫能轻易地用口器把皮肤刺破，重重的骆驼却不会陷入沙漠中，结合我们学过的知识，你能解释这种现象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476280" y="681120"/>
            <a:ext cx="8013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用什么办法可以增大压强，什么办法可以减小压强？下面图中，哪些是增大压强？哪些是减小压强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4138560" y="2854440"/>
            <a:ext cx="46641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推土机具有宽大的履带和锋利的土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00681019114459208"/>
          <p:cNvPicPr/>
          <p:nvPr/>
        </p:nvPicPr>
        <p:blipFill>
          <a:blip r:embed="rId1"/>
          <a:stretch/>
        </p:blipFill>
        <p:spPr>
          <a:xfrm>
            <a:off x="438120" y="234144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527880" y="3562200"/>
            <a:ext cx="17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减小压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6570720" y="35434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4179960" y="4140360"/>
            <a:ext cx="1904760" cy="0"/>
          </a:xfrm>
          <a:prstGeom prst="line">
            <a:avLst/>
          </a:prstGeom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119480" y="428148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ff"/>
                </a:solidFill>
                <a:latin typeface="黑体"/>
                <a:ea typeface="黑体"/>
              </a:rPr>
              <a:t>增大压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"/>
          <p:cNvSpPr/>
          <p:nvPr/>
        </p:nvSpPr>
        <p:spPr>
          <a:xfrm>
            <a:off x="1417680" y="2523960"/>
            <a:ext cx="6354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知道减小和增大压强的方法；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重点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知道减小和增大压强在生活中的应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"/>
          <p:cNvSpPr/>
          <p:nvPr/>
        </p:nvSpPr>
        <p:spPr>
          <a:xfrm>
            <a:off x="3571920" y="1652760"/>
            <a:ext cx="19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213000" y="3267000"/>
            <a:ext cx="1600200" cy="114300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213000" y="4486320"/>
            <a:ext cx="1600200" cy="121932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203640" y="1996920"/>
            <a:ext cx="1600200" cy="114300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00120" y="3281400"/>
            <a:ext cx="26733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受力面积 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一定时，增大压力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371520" y="2214720"/>
            <a:ext cx="212760" cy="3090600"/>
          </a:xfrm>
          <a:custGeom>
            <a:avLst/>
            <a:gdLst>
              <a:gd name="textAreaLeft" fmla="*/ 136080 w 212760"/>
              <a:gd name="textAreaRight" fmla="*/ 213120 w 212760"/>
              <a:gd name="textAreaTop" fmla="*/ 61920 h 3090600"/>
              <a:gd name="textAreaBottom" fmla="*/ 3028680 h 309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4"/>
                  <a:pt x="10800" y="1387"/>
                </a:cubicBezTo>
                <a:lnTo>
                  <a:pt x="10800" y="9413"/>
                </a:lnTo>
                <a:cubicBezTo>
                  <a:pt x="10800" y="10107"/>
                  <a:pt x="5400" y="10800"/>
                  <a:pt x="0" y="10800"/>
                </a:cubicBezTo>
                <a:cubicBezTo>
                  <a:pt x="5400" y="10800"/>
                  <a:pt x="10800" y="11494"/>
                  <a:pt x="10800" y="12187"/>
                </a:cubicBezTo>
                <a:lnTo>
                  <a:pt x="10800" y="20213"/>
                </a:lnTo>
                <a:cubicBezTo>
                  <a:pt x="10800" y="2090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92200" y="1949400"/>
            <a:ext cx="26607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压力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一定时，减小受力面积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592200" y="4492800"/>
            <a:ext cx="243828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增大压力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减小受力面积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2"/>
          <p:cNvGrpSpPr/>
          <p:nvPr/>
        </p:nvGrpSpPr>
        <p:grpSpPr>
          <a:xfrm>
            <a:off x="3443400" y="1971720"/>
            <a:ext cx="1233360" cy="1206360"/>
            <a:chOff x="3443400" y="1971720"/>
            <a:chExt cx="1233360" cy="1206360"/>
          </a:xfrm>
        </p:grpSpPr>
        <p:sp>
          <p:nvSpPr>
            <p:cNvPr id="66" name="Text Box 13"/>
            <p:cNvSpPr/>
            <p:nvPr/>
          </p:nvSpPr>
          <p:spPr>
            <a:xfrm>
              <a:off x="3443400" y="2317680"/>
              <a:ext cx="65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=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>
              <a:off x="4143240" y="25560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5"/>
            <p:cNvSpPr/>
            <p:nvPr/>
          </p:nvSpPr>
          <p:spPr>
            <a:xfrm>
              <a:off x="4221360" y="1971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4221360" y="2657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7"/>
          <p:cNvGrpSpPr/>
          <p:nvPr/>
        </p:nvGrpSpPr>
        <p:grpSpPr>
          <a:xfrm>
            <a:off x="3367440" y="3267000"/>
            <a:ext cx="1232640" cy="1206360"/>
            <a:chOff x="3367440" y="3267000"/>
            <a:chExt cx="1232640" cy="1206360"/>
          </a:xfrm>
        </p:grpSpPr>
        <p:sp>
          <p:nvSpPr>
            <p:cNvPr id="71" name="Text Box 18"/>
            <p:cNvSpPr/>
            <p:nvPr/>
          </p:nvSpPr>
          <p:spPr>
            <a:xfrm>
              <a:off x="3367440" y="3612960"/>
              <a:ext cx="65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=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9"/>
            <p:cNvSpPr/>
            <p:nvPr/>
          </p:nvSpPr>
          <p:spPr>
            <a:xfrm>
              <a:off x="4066920" y="385128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4145040" y="3267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1"/>
            <p:cNvSpPr/>
            <p:nvPr/>
          </p:nvSpPr>
          <p:spPr>
            <a:xfrm>
              <a:off x="4145040" y="3952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2"/>
          <p:cNvGrpSpPr/>
          <p:nvPr/>
        </p:nvGrpSpPr>
        <p:grpSpPr>
          <a:xfrm>
            <a:off x="3367440" y="4486320"/>
            <a:ext cx="1232640" cy="1206360"/>
            <a:chOff x="3367440" y="4486320"/>
            <a:chExt cx="1232640" cy="1206360"/>
          </a:xfrm>
        </p:grpSpPr>
        <p:sp>
          <p:nvSpPr>
            <p:cNvPr id="76" name="Text Box 23"/>
            <p:cNvSpPr/>
            <p:nvPr/>
          </p:nvSpPr>
          <p:spPr>
            <a:xfrm>
              <a:off x="3367440" y="4832280"/>
              <a:ext cx="65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=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4"/>
            <p:cNvSpPr/>
            <p:nvPr/>
          </p:nvSpPr>
          <p:spPr>
            <a:xfrm>
              <a:off x="4066920" y="507060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5"/>
            <p:cNvSpPr/>
            <p:nvPr/>
          </p:nvSpPr>
          <p:spPr>
            <a:xfrm>
              <a:off x="4145040" y="44863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6"/>
            <p:cNvSpPr/>
            <p:nvPr/>
          </p:nvSpPr>
          <p:spPr>
            <a:xfrm>
              <a:off x="4145040" y="5172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Line 27"/>
          <p:cNvSpPr/>
          <p:nvPr/>
        </p:nvSpPr>
        <p:spPr>
          <a:xfrm>
            <a:off x="4660920" y="2657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8"/>
          <p:cNvSpPr/>
          <p:nvPr/>
        </p:nvSpPr>
        <p:spPr>
          <a:xfrm>
            <a:off x="4203720" y="204804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9"/>
          <p:cNvSpPr/>
          <p:nvPr/>
        </p:nvSpPr>
        <p:spPr>
          <a:xfrm flipV="1">
            <a:off x="3365640" y="242892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0"/>
          <p:cNvSpPr/>
          <p:nvPr/>
        </p:nvSpPr>
        <p:spPr>
          <a:xfrm flipV="1">
            <a:off x="4508640" y="334332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4127400" y="40291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2"/>
          <p:cNvSpPr/>
          <p:nvPr/>
        </p:nvSpPr>
        <p:spPr>
          <a:xfrm flipV="1">
            <a:off x="3289320" y="3724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3"/>
          <p:cNvSpPr/>
          <p:nvPr/>
        </p:nvSpPr>
        <p:spPr>
          <a:xfrm flipV="1">
            <a:off x="3289320" y="4867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4"/>
          <p:cNvSpPr/>
          <p:nvPr/>
        </p:nvSpPr>
        <p:spPr>
          <a:xfrm flipV="1">
            <a:off x="4584600" y="4486320"/>
            <a:ext cx="152640" cy="457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4584600" y="524844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4894200" y="2265480"/>
            <a:ext cx="23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细线切割皮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7"/>
          <p:cNvSpPr/>
          <p:nvPr/>
        </p:nvSpPr>
        <p:spPr>
          <a:xfrm>
            <a:off x="4894200" y="3276720"/>
            <a:ext cx="206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压路机的磙子是重质实心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8"/>
          <p:cNvSpPr/>
          <p:nvPr/>
        </p:nvSpPr>
        <p:spPr>
          <a:xfrm>
            <a:off x="4894200" y="4343400"/>
            <a:ext cx="227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木桩底部削尖并加大力气更容易打入地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9" descr="20070604113020382"/>
          <p:cNvPicPr/>
          <p:nvPr/>
        </p:nvPicPr>
        <p:blipFill>
          <a:blip r:embed="rId1"/>
          <a:stretch/>
        </p:blipFill>
        <p:spPr>
          <a:xfrm>
            <a:off x="7027920" y="1913040"/>
            <a:ext cx="1523880" cy="109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0" descr="20071211104834335"/>
          <p:cNvPicPr/>
          <p:nvPr/>
        </p:nvPicPr>
        <p:blipFill>
          <a:blip r:embed="rId2"/>
          <a:srcRect l="10657" t="6611" r="11751" b="22883"/>
          <a:stretch/>
        </p:blipFill>
        <p:spPr>
          <a:xfrm>
            <a:off x="7061040" y="3084480"/>
            <a:ext cx="1752840" cy="128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1" descr=""/>
          <p:cNvPicPr/>
          <p:nvPr/>
        </p:nvPicPr>
        <p:blipFill>
          <a:blip r:embed="rId3"/>
          <a:stretch/>
        </p:blipFill>
        <p:spPr>
          <a:xfrm>
            <a:off x="7007400" y="4670280"/>
            <a:ext cx="1677960" cy="111600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6147"/>
          <p:cNvGrpSpPr/>
          <p:nvPr/>
        </p:nvGrpSpPr>
        <p:grpSpPr>
          <a:xfrm>
            <a:off x="279360" y="436680"/>
            <a:ext cx="2730240" cy="807480"/>
            <a:chOff x="279360" y="436680"/>
            <a:chExt cx="2730240" cy="807480"/>
          </a:xfrm>
        </p:grpSpPr>
        <p:sp>
          <p:nvSpPr>
            <p:cNvPr id="96" name="矩形 7"/>
            <p:cNvSpPr/>
            <p:nvPr/>
          </p:nvSpPr>
          <p:spPr>
            <a:xfrm>
              <a:off x="839160" y="436680"/>
              <a:ext cx="1671840" cy="7621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16"/>
            <p:cNvSpPr/>
            <p:nvPr/>
          </p:nvSpPr>
          <p:spPr>
            <a:xfrm>
              <a:off x="279360" y="725040"/>
              <a:ext cx="524160" cy="48240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17"/>
            <p:cNvSpPr/>
            <p:nvPr/>
          </p:nvSpPr>
          <p:spPr>
            <a:xfrm>
              <a:off x="641160" y="673920"/>
              <a:ext cx="163440" cy="16812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120" bIns="-47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6151"/>
            <p:cNvSpPr/>
            <p:nvPr/>
          </p:nvSpPr>
          <p:spPr>
            <a:xfrm>
              <a:off x="1335240" y="7110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增大压强的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文本框 6152"/>
            <p:cNvSpPr/>
            <p:nvPr/>
          </p:nvSpPr>
          <p:spPr>
            <a:xfrm>
              <a:off x="279360" y="72360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137040" y="1676520"/>
            <a:ext cx="1600200" cy="114300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213000" y="2971800"/>
            <a:ext cx="1600200" cy="114300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213000" y="4343400"/>
            <a:ext cx="1600200" cy="114300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76440" y="1685880"/>
            <a:ext cx="25952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压力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一定时，增大受力面积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676440" y="3083040"/>
            <a:ext cx="25462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受力面积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一定时，减小压力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371520" y="2050920"/>
            <a:ext cx="304920" cy="2995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120 h 2995920"/>
              <a:gd name="textAreaBottom" fmla="*/ 2926800 h 299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8"/>
                  <a:pt x="10800" y="1595"/>
                </a:cubicBezTo>
                <a:lnTo>
                  <a:pt x="10800" y="9205"/>
                </a:lnTo>
                <a:cubicBezTo>
                  <a:pt x="10800" y="10003"/>
                  <a:pt x="5400" y="10800"/>
                  <a:pt x="0" y="10800"/>
                </a:cubicBezTo>
                <a:cubicBezTo>
                  <a:pt x="5400" y="10800"/>
                  <a:pt x="10800" y="11598"/>
                  <a:pt x="10800" y="12395"/>
                </a:cubicBezTo>
                <a:lnTo>
                  <a:pt x="10800" y="20005"/>
                </a:lnTo>
                <a:cubicBezTo>
                  <a:pt x="10800" y="2080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9"/>
          <p:cNvGrpSpPr/>
          <p:nvPr/>
        </p:nvGrpSpPr>
        <p:grpSpPr>
          <a:xfrm>
            <a:off x="3367440" y="1676520"/>
            <a:ext cx="1232640" cy="1206360"/>
            <a:chOff x="3367440" y="1676520"/>
            <a:chExt cx="1232640" cy="1206360"/>
          </a:xfrm>
        </p:grpSpPr>
        <p:sp>
          <p:nvSpPr>
            <p:cNvPr id="109" name="Text Box 10"/>
            <p:cNvSpPr/>
            <p:nvPr/>
          </p:nvSpPr>
          <p:spPr>
            <a:xfrm>
              <a:off x="3367440" y="2022480"/>
              <a:ext cx="65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=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>
              <a:off x="4066920" y="226080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4145040" y="16765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4145040" y="2362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4"/>
          <p:cNvGrpSpPr/>
          <p:nvPr/>
        </p:nvGrpSpPr>
        <p:grpSpPr>
          <a:xfrm>
            <a:off x="3291120" y="2971800"/>
            <a:ext cx="1233360" cy="1206360"/>
            <a:chOff x="3291120" y="2971800"/>
            <a:chExt cx="1233360" cy="1206360"/>
          </a:xfrm>
        </p:grpSpPr>
        <p:sp>
          <p:nvSpPr>
            <p:cNvPr id="114" name="Text Box 15"/>
            <p:cNvSpPr/>
            <p:nvPr/>
          </p:nvSpPr>
          <p:spPr>
            <a:xfrm>
              <a:off x="3291120" y="3317760"/>
              <a:ext cx="65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=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6"/>
            <p:cNvSpPr/>
            <p:nvPr/>
          </p:nvSpPr>
          <p:spPr>
            <a:xfrm>
              <a:off x="3990960" y="35560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4069080" y="2971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4069080" y="3657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9"/>
          <p:cNvGrpSpPr/>
          <p:nvPr/>
        </p:nvGrpSpPr>
        <p:grpSpPr>
          <a:xfrm>
            <a:off x="3291120" y="4267080"/>
            <a:ext cx="1233360" cy="1206360"/>
            <a:chOff x="3291120" y="4267080"/>
            <a:chExt cx="1233360" cy="1206360"/>
          </a:xfrm>
        </p:grpSpPr>
        <p:sp>
          <p:nvSpPr>
            <p:cNvPr id="119" name="Text Box 20"/>
            <p:cNvSpPr/>
            <p:nvPr/>
          </p:nvSpPr>
          <p:spPr>
            <a:xfrm>
              <a:off x="3291120" y="4613040"/>
              <a:ext cx="65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=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3990960" y="48513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2"/>
            <p:cNvSpPr/>
            <p:nvPr/>
          </p:nvSpPr>
          <p:spPr>
            <a:xfrm>
              <a:off x="4069080" y="4267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3"/>
            <p:cNvSpPr/>
            <p:nvPr/>
          </p:nvSpPr>
          <p:spPr>
            <a:xfrm>
              <a:off x="4069080" y="4952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24"/>
          <p:cNvSpPr/>
          <p:nvPr/>
        </p:nvSpPr>
        <p:spPr>
          <a:xfrm>
            <a:off x="676440" y="4276800"/>
            <a:ext cx="268416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增大受力面积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减小压力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3365640" y="20574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6"/>
          <p:cNvSpPr/>
          <p:nvPr/>
        </p:nvSpPr>
        <p:spPr>
          <a:xfrm>
            <a:off x="4127400" y="1752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 flipV="1">
            <a:off x="4432320" y="236232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3289320" y="34290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3289320" y="47242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4432320" y="30481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4051440" y="36576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 flipV="1">
            <a:off x="4356000" y="5029200"/>
            <a:ext cx="152640" cy="457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4508640" y="43434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5"/>
          <p:cNvSpPr/>
          <p:nvPr/>
        </p:nvSpPr>
        <p:spPr>
          <a:xfrm>
            <a:off x="4849920" y="1743120"/>
            <a:ext cx="188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书包带宽，背起来舒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4835520" y="3033720"/>
            <a:ext cx="2362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从书包中取出一些书背起来舒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7"/>
          <p:cNvSpPr/>
          <p:nvPr/>
        </p:nvSpPr>
        <p:spPr>
          <a:xfrm>
            <a:off x="4919760" y="4187880"/>
            <a:ext cx="241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高层建筑地基宽厚，且用空心砖代替实心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8" descr="0339_sml">
            <a:hlinkClick r:id="rId1"/>
          </p:cNvPr>
          <p:cNvPicPr/>
          <p:nvPr/>
        </p:nvPicPr>
        <p:blipFill>
          <a:blip r:embed="rId2"/>
          <a:srcRect l="64862" t="0" r="0" b="48401"/>
          <a:stretch/>
        </p:blipFill>
        <p:spPr>
          <a:xfrm>
            <a:off x="7039080" y="1197000"/>
            <a:ext cx="1888920" cy="1981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9" descr="8cb0e329b12350e498250ac5"/>
          <p:cNvPicPr/>
          <p:nvPr/>
        </p:nvPicPr>
        <p:blipFill>
          <a:blip r:embed="rId3"/>
          <a:stretch/>
        </p:blipFill>
        <p:spPr>
          <a:xfrm>
            <a:off x="7321680" y="3443400"/>
            <a:ext cx="1228680" cy="2274840"/>
          </a:xfrm>
          <a:prstGeom prst="rect">
            <a:avLst/>
          </a:prstGeom>
          <a:ln w="0">
            <a:noFill/>
          </a:ln>
        </p:spPr>
      </p:pic>
      <p:sp>
        <p:nvSpPr>
          <p:cNvPr id="138" name="Line 40"/>
          <p:cNvSpPr/>
          <p:nvPr/>
        </p:nvSpPr>
        <p:spPr>
          <a:xfrm>
            <a:off x="6588000" y="1917720"/>
            <a:ext cx="914400" cy="0"/>
          </a:xfrm>
          <a:prstGeom prst="line">
            <a:avLst/>
          </a:prstGeom>
          <a:ln w="57240">
            <a:solidFill>
              <a:srgbClr val="3333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6147"/>
          <p:cNvGrpSpPr/>
          <p:nvPr/>
        </p:nvGrpSpPr>
        <p:grpSpPr>
          <a:xfrm>
            <a:off x="279360" y="436680"/>
            <a:ext cx="2730240" cy="807120"/>
            <a:chOff x="279360" y="436680"/>
            <a:chExt cx="2730240" cy="807120"/>
          </a:xfrm>
        </p:grpSpPr>
        <p:sp>
          <p:nvSpPr>
            <p:cNvPr id="140" name="矩形 7"/>
            <p:cNvSpPr/>
            <p:nvPr/>
          </p:nvSpPr>
          <p:spPr>
            <a:xfrm>
              <a:off x="839160" y="436680"/>
              <a:ext cx="1671840" cy="7610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16"/>
            <p:cNvSpPr/>
            <p:nvPr/>
          </p:nvSpPr>
          <p:spPr>
            <a:xfrm>
              <a:off x="279360" y="724320"/>
              <a:ext cx="524160" cy="48168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7"/>
            <p:cNvSpPr/>
            <p:nvPr/>
          </p:nvSpPr>
          <p:spPr>
            <a:xfrm>
              <a:off x="641160" y="673560"/>
              <a:ext cx="163440" cy="16812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120" bIns="-47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6151"/>
            <p:cNvSpPr/>
            <p:nvPr/>
          </p:nvSpPr>
          <p:spPr>
            <a:xfrm>
              <a:off x="1335240" y="71064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减小压强的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6152"/>
            <p:cNvSpPr/>
            <p:nvPr/>
          </p:nvSpPr>
          <p:spPr>
            <a:xfrm>
              <a:off x="279360" y="72324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1434600" y="533520"/>
            <a:ext cx="1729080" cy="1871640"/>
            <a:chOff x="1434600" y="533520"/>
            <a:chExt cx="1729080" cy="1871640"/>
          </a:xfrm>
        </p:grpSpPr>
        <p:grpSp>
          <p:nvGrpSpPr>
            <p:cNvPr id="147" name="Group 3"/>
            <p:cNvGrpSpPr/>
            <p:nvPr/>
          </p:nvGrpSpPr>
          <p:grpSpPr>
            <a:xfrm>
              <a:off x="1434960" y="2260440"/>
              <a:ext cx="1728720" cy="144360"/>
              <a:chOff x="1434960" y="2260440"/>
              <a:chExt cx="1728720" cy="144360"/>
            </a:xfrm>
          </p:grpSpPr>
          <p:sp>
            <p:nvSpPr>
              <p:cNvPr id="148" name="Line 4"/>
              <p:cNvSpPr/>
              <p:nvPr/>
            </p:nvSpPr>
            <p:spPr>
              <a:xfrm>
                <a:off x="1434960" y="2260440"/>
                <a:ext cx="172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"/>
              <p:cNvSpPr/>
              <p:nvPr/>
            </p:nvSpPr>
            <p:spPr>
              <a:xfrm flipH="1">
                <a:off x="1434960" y="2260440"/>
                <a:ext cx="7128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 flipH="1">
                <a:off x="1650960" y="2260440"/>
                <a:ext cx="7128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 flipH="1">
                <a:off x="1866240" y="2260440"/>
                <a:ext cx="7164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 flipH="1">
                <a:off x="2082240" y="2260440"/>
                <a:ext cx="7164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 flipH="1">
                <a:off x="2298600" y="2260440"/>
                <a:ext cx="7128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 flipH="1">
                <a:off x="2514600" y="2260440"/>
                <a:ext cx="7128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 flipH="1">
                <a:off x="2729880" y="2260440"/>
                <a:ext cx="7164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 flipH="1">
                <a:off x="2947320" y="2260440"/>
                <a:ext cx="7164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Rectangle 13"/>
            <p:cNvSpPr/>
            <p:nvPr/>
          </p:nvSpPr>
          <p:spPr>
            <a:xfrm>
              <a:off x="1650960" y="1397160"/>
              <a:ext cx="1297080" cy="863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901880" y="1568520"/>
              <a:ext cx="182520" cy="239760"/>
            </a:xfrm>
            <a:custGeom>
              <a:avLst/>
              <a:gdLst/>
              <a:ahLst/>
              <a:rect l="l" t="t" r="r" b="b"/>
              <a:pathLst>
                <a:path w="115" h="151">
                  <a:moveTo>
                    <a:pt x="114" y="0"/>
                  </a:moveTo>
                  <a:cubicBezTo>
                    <a:pt x="100" y="104"/>
                    <a:pt x="115" y="151"/>
                    <a:pt x="0" y="15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2455920" y="1584360"/>
              <a:ext cx="241200" cy="209520"/>
            </a:xfrm>
            <a:custGeom>
              <a:avLst/>
              <a:gdLst/>
              <a:ahLst/>
              <a:rect l="l" t="t" r="r" b="b"/>
              <a:pathLst>
                <a:path w="152" h="132">
                  <a:moveTo>
                    <a:pt x="1" y="0"/>
                  </a:moveTo>
                  <a:cubicBezTo>
                    <a:pt x="4" y="28"/>
                    <a:pt x="0" y="58"/>
                    <a:pt x="10" y="84"/>
                  </a:cubicBezTo>
                  <a:cubicBezTo>
                    <a:pt x="14" y="95"/>
                    <a:pt x="29" y="98"/>
                    <a:pt x="39" y="103"/>
                  </a:cubicBezTo>
                  <a:cubicBezTo>
                    <a:pt x="70" y="119"/>
                    <a:pt x="118" y="132"/>
                    <a:pt x="152" y="13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2122560" y="1940040"/>
              <a:ext cx="318960" cy="104760"/>
            </a:xfrm>
            <a:custGeom>
              <a:avLst/>
              <a:gdLst/>
              <a:ahLst/>
              <a:rect l="l" t="t" r="r" b="b"/>
              <a:pathLst>
                <a:path w="201" h="66">
                  <a:moveTo>
                    <a:pt x="3" y="42"/>
                  </a:moveTo>
                  <a:cubicBezTo>
                    <a:pt x="78" y="66"/>
                    <a:pt x="113" y="58"/>
                    <a:pt x="201" y="51"/>
                  </a:cubicBezTo>
                  <a:cubicBezTo>
                    <a:pt x="166" y="40"/>
                    <a:pt x="135" y="30"/>
                    <a:pt x="98" y="23"/>
                  </a:cubicBezTo>
                  <a:cubicBezTo>
                    <a:pt x="0" y="32"/>
                    <a:pt x="3" y="0"/>
                    <a:pt x="3" y="42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 flipH="1">
              <a:off x="1434600" y="2260440"/>
              <a:ext cx="71640" cy="14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8"/>
            <p:cNvSpPr/>
            <p:nvPr/>
          </p:nvSpPr>
          <p:spPr>
            <a:xfrm>
              <a:off x="2155680" y="1109520"/>
              <a:ext cx="287640" cy="287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9"/>
            <p:cNvSpPr/>
            <p:nvPr/>
          </p:nvSpPr>
          <p:spPr>
            <a:xfrm>
              <a:off x="2155680" y="822240"/>
              <a:ext cx="287640" cy="287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0"/>
            <p:cNvSpPr/>
            <p:nvPr/>
          </p:nvSpPr>
          <p:spPr>
            <a:xfrm>
              <a:off x="2155680" y="533520"/>
              <a:ext cx="287640" cy="287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21"/>
          <p:cNvSpPr/>
          <p:nvPr/>
        </p:nvSpPr>
        <p:spPr>
          <a:xfrm>
            <a:off x="825480" y="2514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压的我受不了，救救我</a:t>
            </a:r>
            <a:r>
              <a:rPr b="0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2"/>
          <p:cNvGrpSpPr/>
          <p:nvPr/>
        </p:nvGrpSpPr>
        <p:grpSpPr>
          <a:xfrm>
            <a:off x="3645000" y="2895480"/>
            <a:ext cx="1728720" cy="1295280"/>
            <a:chOff x="3645000" y="2895480"/>
            <a:chExt cx="1728720" cy="1295280"/>
          </a:xfrm>
        </p:grpSpPr>
        <p:sp>
          <p:nvSpPr>
            <p:cNvPr id="167" name="Rectangle 23"/>
            <p:cNvSpPr/>
            <p:nvPr/>
          </p:nvSpPr>
          <p:spPr>
            <a:xfrm>
              <a:off x="3860640" y="3182760"/>
              <a:ext cx="129708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24"/>
            <p:cNvGrpSpPr/>
            <p:nvPr/>
          </p:nvGrpSpPr>
          <p:grpSpPr>
            <a:xfrm>
              <a:off x="3645000" y="4046400"/>
              <a:ext cx="1728720" cy="144360"/>
              <a:chOff x="3645000" y="4046400"/>
              <a:chExt cx="1728720" cy="144360"/>
            </a:xfrm>
          </p:grpSpPr>
          <p:sp>
            <p:nvSpPr>
              <p:cNvPr id="169" name="Line 25"/>
              <p:cNvSpPr/>
              <p:nvPr/>
            </p:nvSpPr>
            <p:spPr>
              <a:xfrm>
                <a:off x="3645000" y="4046400"/>
                <a:ext cx="172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 flipH="1">
                <a:off x="3645000" y="4046400"/>
                <a:ext cx="7128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 flipH="1">
                <a:off x="3861000" y="4046400"/>
                <a:ext cx="7128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 flipH="1">
                <a:off x="4076280" y="4046400"/>
                <a:ext cx="7164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 flipH="1">
                <a:off x="4292280" y="4046400"/>
                <a:ext cx="7164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 flipH="1">
                <a:off x="4508640" y="4046400"/>
                <a:ext cx="7128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 flipH="1">
                <a:off x="4724640" y="4046400"/>
                <a:ext cx="7128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 flipH="1">
                <a:off x="4939920" y="4046400"/>
                <a:ext cx="7164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 flipH="1">
                <a:off x="5157360" y="4046400"/>
                <a:ext cx="7164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Rectangle 34"/>
            <p:cNvSpPr/>
            <p:nvPr/>
          </p:nvSpPr>
          <p:spPr>
            <a:xfrm>
              <a:off x="3933720" y="2895480"/>
              <a:ext cx="287280" cy="287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5"/>
            <p:cNvSpPr/>
            <p:nvPr/>
          </p:nvSpPr>
          <p:spPr>
            <a:xfrm>
              <a:off x="4797360" y="2895480"/>
              <a:ext cx="287280" cy="287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6"/>
            <p:cNvSpPr/>
            <p:nvPr/>
          </p:nvSpPr>
          <p:spPr>
            <a:xfrm>
              <a:off x="4367160" y="2895480"/>
              <a:ext cx="287280" cy="287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37"/>
            <p:cNvSpPr/>
            <p:nvPr/>
          </p:nvSpPr>
          <p:spPr>
            <a:xfrm>
              <a:off x="4221000" y="3327480"/>
              <a:ext cx="503280" cy="503280"/>
            </a:xfrm>
            <a:prstGeom prst="smileyFace">
              <a:avLst>
                <a:gd name="adj" fmla="val 465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38"/>
          <p:cNvSpPr/>
          <p:nvPr/>
        </p:nvSpPr>
        <p:spPr>
          <a:xfrm>
            <a:off x="3645000" y="4343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这舒服多了</a:t>
            </a:r>
            <a:r>
              <a:rPr b="0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39"/>
          <p:cNvGrpSpPr/>
          <p:nvPr/>
        </p:nvGrpSpPr>
        <p:grpSpPr>
          <a:xfrm>
            <a:off x="6083280" y="4419720"/>
            <a:ext cx="1728720" cy="1294920"/>
            <a:chOff x="6083280" y="4419720"/>
            <a:chExt cx="1728720" cy="1294920"/>
          </a:xfrm>
        </p:grpSpPr>
        <p:sp>
          <p:nvSpPr>
            <p:cNvPr id="184" name="Rectangle 40"/>
            <p:cNvSpPr/>
            <p:nvPr/>
          </p:nvSpPr>
          <p:spPr>
            <a:xfrm>
              <a:off x="6298920" y="4706640"/>
              <a:ext cx="1296720" cy="863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41"/>
            <p:cNvGrpSpPr/>
            <p:nvPr/>
          </p:nvGrpSpPr>
          <p:grpSpPr>
            <a:xfrm>
              <a:off x="6083280" y="5570280"/>
              <a:ext cx="1728720" cy="144360"/>
              <a:chOff x="6083280" y="5570280"/>
              <a:chExt cx="1728720" cy="144360"/>
            </a:xfrm>
          </p:grpSpPr>
          <p:sp>
            <p:nvSpPr>
              <p:cNvPr id="186" name="Line 42"/>
              <p:cNvSpPr/>
              <p:nvPr/>
            </p:nvSpPr>
            <p:spPr>
              <a:xfrm>
                <a:off x="6083280" y="5570280"/>
                <a:ext cx="172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 flipH="1">
                <a:off x="6083280" y="5570280"/>
                <a:ext cx="7128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 flipH="1">
                <a:off x="6299280" y="5570280"/>
                <a:ext cx="7128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 flipH="1">
                <a:off x="6514560" y="5570280"/>
                <a:ext cx="7164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 flipH="1">
                <a:off x="6730560" y="5570280"/>
                <a:ext cx="7164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 flipH="1">
                <a:off x="6946920" y="5570280"/>
                <a:ext cx="7128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 flipH="1">
                <a:off x="7162920" y="5570280"/>
                <a:ext cx="7128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 flipH="1">
                <a:off x="7378200" y="5570280"/>
                <a:ext cx="7164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 flipH="1">
                <a:off x="7595640" y="5570280"/>
                <a:ext cx="7164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Rectangle 51"/>
            <p:cNvSpPr/>
            <p:nvPr/>
          </p:nvSpPr>
          <p:spPr>
            <a:xfrm>
              <a:off x="6805440" y="4419720"/>
              <a:ext cx="286920" cy="286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52"/>
            <p:cNvSpPr/>
            <p:nvPr/>
          </p:nvSpPr>
          <p:spPr>
            <a:xfrm>
              <a:off x="6659280" y="4851360"/>
              <a:ext cx="502920" cy="502920"/>
            </a:xfrm>
            <a:prstGeom prst="smileyFace">
              <a:avLst>
                <a:gd name="adj" fmla="val 465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53"/>
          <p:cNvSpPr/>
          <p:nvPr/>
        </p:nvSpPr>
        <p:spPr>
          <a:xfrm>
            <a:off x="6083280" y="5867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这更舒服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4"/>
          <p:cNvSpPr/>
          <p:nvPr/>
        </p:nvSpPr>
        <p:spPr>
          <a:xfrm>
            <a:off x="1282680" y="36576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减小压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5"/>
          <p:cNvSpPr/>
          <p:nvPr/>
        </p:nvSpPr>
        <p:spPr>
          <a:xfrm>
            <a:off x="2349360" y="2895480"/>
            <a:ext cx="1067040" cy="129564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6"/>
          <p:cNvSpPr/>
          <p:nvPr/>
        </p:nvSpPr>
        <p:spPr>
          <a:xfrm>
            <a:off x="5397480" y="25146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减小压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7"/>
          <p:cNvSpPr/>
          <p:nvPr/>
        </p:nvSpPr>
        <p:spPr>
          <a:xfrm>
            <a:off x="3797280" y="1371600"/>
            <a:ext cx="2971800" cy="297180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0" descr="图片2"/>
          <p:cNvPicPr/>
          <p:nvPr/>
        </p:nvPicPr>
        <p:blipFill>
          <a:blip r:embed="rId1"/>
          <a:srcRect l="0" t="0" r="3155" b="-838"/>
          <a:stretch/>
        </p:blipFill>
        <p:spPr>
          <a:xfrm>
            <a:off x="4786200" y="600120"/>
            <a:ext cx="3697560" cy="2876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啄木鸟2"/>
          <p:cNvPicPr/>
          <p:nvPr/>
        </p:nvPicPr>
        <p:blipFill>
          <a:blip r:embed="rId2"/>
          <a:stretch/>
        </p:blipFill>
        <p:spPr>
          <a:xfrm>
            <a:off x="611280" y="631800"/>
            <a:ext cx="3744720" cy="2868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铁轨"/>
          <p:cNvPicPr/>
          <p:nvPr/>
        </p:nvPicPr>
        <p:blipFill>
          <a:blip r:embed="rId3"/>
          <a:stretch/>
        </p:blipFill>
        <p:spPr>
          <a:xfrm>
            <a:off x="4791240" y="3525840"/>
            <a:ext cx="3687480" cy="27669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382680" y="1352520"/>
            <a:ext cx="170496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新魏"/>
              </a:rPr>
              <a:t>啄木鸟有个细长而坚硬的尖喙，这对它的生存有什么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7451640" y="703440"/>
            <a:ext cx="75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新魏"/>
              </a:rPr>
              <a:t>滑雪运动员为什么不会陷下去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4716360" y="5661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9bd5"/>
                </a:solidFill>
                <a:latin typeface="Arial"/>
                <a:ea typeface="华文新魏"/>
              </a:rPr>
              <a:t>钢轨为什么铺在枕木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d_1303383"/>
          <p:cNvPicPr/>
          <p:nvPr/>
        </p:nvPicPr>
        <p:blipFill>
          <a:blip r:embed="rId4"/>
          <a:stretch/>
        </p:blipFill>
        <p:spPr>
          <a:xfrm>
            <a:off x="574560" y="3517920"/>
            <a:ext cx="3816360" cy="27716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9"/>
          <p:cNvSpPr/>
          <p:nvPr/>
        </p:nvSpPr>
        <p:spPr>
          <a:xfrm>
            <a:off x="270000" y="3600360"/>
            <a:ext cx="127764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9bd5"/>
                </a:solidFill>
                <a:latin typeface="Tahoma"/>
                <a:ea typeface="华文新魏"/>
              </a:rPr>
              <a:t>　斧头的刃为什么很锋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t85iii"/>
          <p:cNvPicPr/>
          <p:nvPr/>
        </p:nvPicPr>
        <p:blipFill>
          <a:blip r:embed="rId1"/>
          <a:stretch/>
        </p:blipFill>
        <p:spPr>
          <a:xfrm>
            <a:off x="704880" y="3124080"/>
            <a:ext cx="3962520" cy="3200400"/>
          </a:xfrm>
          <a:prstGeom prst="rect">
            <a:avLst/>
          </a:prstGeom>
          <a:ln w="0">
            <a:noFill/>
          </a:ln>
        </p:spPr>
      </p:pic>
      <p:sp>
        <p:nvSpPr>
          <p:cNvPr id="213" name="Oval 3"/>
          <p:cNvSpPr/>
          <p:nvPr/>
        </p:nvSpPr>
        <p:spPr>
          <a:xfrm>
            <a:off x="1295280" y="5429160"/>
            <a:ext cx="1143000" cy="838440"/>
          </a:xfrm>
          <a:prstGeom prst="ellips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m41d"/>
          <p:cNvPicPr/>
          <p:nvPr/>
        </p:nvPicPr>
        <p:blipFill>
          <a:blip r:embed="rId2"/>
          <a:stretch/>
        </p:blipFill>
        <p:spPr>
          <a:xfrm>
            <a:off x="4648320" y="1619280"/>
            <a:ext cx="4114800" cy="2273400"/>
          </a:xfrm>
          <a:prstGeom prst="rect">
            <a:avLst/>
          </a:prstGeom>
          <a:ln w="0">
            <a:noFill/>
          </a:ln>
        </p:spPr>
      </p:pic>
      <p:sp>
        <p:nvSpPr>
          <p:cNvPr id="215" name="Oval 5"/>
          <p:cNvSpPr/>
          <p:nvPr/>
        </p:nvSpPr>
        <p:spPr>
          <a:xfrm>
            <a:off x="7010280" y="3429000"/>
            <a:ext cx="1752840" cy="533520"/>
          </a:xfrm>
          <a:prstGeom prst="ellipse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5780160" y="4948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坦克的两条履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4876920" y="4724280"/>
            <a:ext cx="3581280" cy="990720"/>
          </a:xfrm>
          <a:prstGeom prst="wedgeEllipseCallout">
            <a:avLst>
              <a:gd name="adj1" fmla="val 30717"/>
              <a:gd name="adj2" fmla="val -123398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4876920" y="4724280"/>
            <a:ext cx="3581280" cy="990720"/>
          </a:xfrm>
          <a:prstGeom prst="wedgeEllipseCallout">
            <a:avLst>
              <a:gd name="adj1" fmla="val -117685"/>
              <a:gd name="adj2" fmla="val 6121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576360" y="1897200"/>
            <a:ext cx="396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44546a"/>
                </a:solidFill>
                <a:latin typeface="黑体"/>
                <a:ea typeface="黑体"/>
              </a:rPr>
              <a:t>增大受力面积，减少压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6147"/>
          <p:cNvGrpSpPr/>
          <p:nvPr/>
        </p:nvGrpSpPr>
        <p:grpSpPr>
          <a:xfrm>
            <a:off x="279360" y="436680"/>
            <a:ext cx="2231640" cy="807120"/>
            <a:chOff x="279360" y="436680"/>
            <a:chExt cx="2231640" cy="807120"/>
          </a:xfrm>
        </p:grpSpPr>
        <p:sp>
          <p:nvSpPr>
            <p:cNvPr id="221" name="矩形 7"/>
            <p:cNvSpPr/>
            <p:nvPr/>
          </p:nvSpPr>
          <p:spPr>
            <a:xfrm>
              <a:off x="839160" y="436680"/>
              <a:ext cx="1671840" cy="7610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16"/>
            <p:cNvSpPr/>
            <p:nvPr/>
          </p:nvSpPr>
          <p:spPr>
            <a:xfrm>
              <a:off x="279360" y="724320"/>
              <a:ext cx="524160" cy="48168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17"/>
            <p:cNvSpPr/>
            <p:nvPr/>
          </p:nvSpPr>
          <p:spPr>
            <a:xfrm>
              <a:off x="641160" y="673560"/>
              <a:ext cx="163440" cy="16812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120" bIns="-47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文本框 6151"/>
            <p:cNvSpPr/>
            <p:nvPr/>
          </p:nvSpPr>
          <p:spPr>
            <a:xfrm>
              <a:off x="1193040" y="7106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压强的应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6152"/>
            <p:cNvSpPr/>
            <p:nvPr/>
          </p:nvSpPr>
          <p:spPr>
            <a:xfrm>
              <a:off x="279360" y="72324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92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192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192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192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/>
  <dc:description/>
  <dc:language>en-US</dc:language>
  <cp:lastModifiedBy>Administrator</cp:lastModifiedBy>
  <dcterms:modified xsi:type="dcterms:W3CDTF">2019-01-09T07:55:06Z</dcterms:modified>
  <cp:revision>3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